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2B7-06DD-4AD3-A748-287BDA13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B3D-A5E4-42C2-8287-3022B75A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5FE-21DC-4834-8E26-7A8916DE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432A-F23C-4418-A254-7A64D9E2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EAAC-BA2B-4A4F-BC6D-FB56BE41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FF16-B2D7-41AD-AC44-C92A3EC0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FFCA-14B2-4387-98F2-7EF6DE0F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20D4-03FE-4A75-9278-E527FF27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528E-AE8F-440C-AAC4-CA6C2AD3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D5C2-BF0E-4229-9E57-BC06A657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2E0B-7C12-42B2-B92A-4C2ECEFC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D62-796C-4DC9-9D2F-83EE0BCF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50D8-55F3-4614-B859-62F44A49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CFD3-CE7B-422E-8F73-58C6E106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E9CC-C7D9-499C-A97C-1AE13F04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5313-BD7E-4687-9F11-018E7713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FA0C-6E60-42DD-906E-A6E122B7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E55-DF86-4262-9389-2A12AD99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37D-2B83-4717-8A47-2A56E28D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CA0C-738A-4910-82FD-C6544465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D797-6C10-41A0-84C8-5534F10A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FF3A-4C49-4899-9AE1-ECFE6A60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8685-D9D2-446E-BCDA-7FB63552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0A2D-B93C-48BE-AF93-452D9FBA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A90F-8F55-4CF2-8761-E09346B3F8D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25B2-9D41-4485-989E-A0311579756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90;&#1077;&#1086;&#1088;&#1072;" TargetMode="External"/><Relationship Id="rId2" Type="http://schemas.openxmlformats.org/officeDocument/2006/relationships/hyperlink" Target="http://www.pravoslavie.ru/put/meteora.htm" TargetMode="External"/><Relationship Id="rId3" Type="http://schemas.openxmlformats.org/officeDocument/2006/relationships/hyperlink" Target="http://www.edwebproject.org/balkans/meteora.html" TargetMode="External"/><Relationship Id="rId4" Type="http://schemas.openxmlformats.org/officeDocument/2006/relationships/hyperlink" Target="http://www.wdbydana.com/meteora.htm" TargetMode="External"/><Relationship Id="rId5" Type="http://schemas.openxmlformats.org/officeDocument/2006/relationships/hyperlink" Target="http://www.ippo.ru/novosti-2009-g./monastyri-meteory-paryat-v-vozduhe.html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етеора – монастыри «парящие в воздухе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503520" y="32004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3413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удентк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V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р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413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илологическ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413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акульт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413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дянова Е. 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413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719520" y="5654520"/>
            <a:ext cx="108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Основополагающий вопро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ую ценность несет в себе красо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Что мы можем узнать?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монастыри Метео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ля чего и кем они создавалис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е значение для человечества они имеют в настоящее врем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Дидактические цели проек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знакомление ребят с таким уникальным явлением, как монастыри Метеора. Объяснить их природное, культурное и духовное знач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етеодические задач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учить самостоятельно собирать информацию, рассуждать и делать вы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сширить кругозор уча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Представление результатов исследова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чи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ворческая презент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то-репорта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родолжительность проек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должительность составляет от одного до двух уро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Этапы проведения проек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Вводный урок, показ презентации учи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Поиск материалов учениками, работа над презентацией, составление фото-репортажа, написание эссе и сочин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Урок подведения итогов. Показ учащимися своих рабо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Интернет ресурс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ru.wikipedia.org/wiki/Мете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www.pravoslavie.ru/put/meteora.ht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http://www.edwebproject.org/balkans/meteora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http://www.wdbydana.com/meteora.ht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http://www.ippo.ru/novosti-2009-g./monastyri-meteory-paryat-v-vozduhe.html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5-10T18:58:1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